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EFB-3415-474E-B8B4-91F6C199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E5C3-04F6-4BCC-BA31-A4FD35F7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AAA-8A92-4A97-ACF4-EC2FDB2E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44C-FAD4-4346-81D5-DF6351F7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19A-5C95-4224-AD38-E5B8A84A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266-2AF1-48CE-BA64-6CE3CD2D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9B3-6E69-4DA2-A7F4-D432FC0F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C71-BEB0-4554-82C5-E3784F46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ED5-CAA1-4A53-9F5C-CA5D7AE3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94C-91B5-4E06-BB0F-C348E943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8A1-40D0-4618-A933-625ED12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46F-70D9-4596-916E-2CDB031B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26B9-9AB7-4C0D-ADA9-659272548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3809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make predictions as I read and look to see if my predictions are accur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6094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icture.  What do you think will happen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52578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800" y="1519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text to make an educated guess on what might happen N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predic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students to the front of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reading at the top of page 23 with “You will not object if we look 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, STOP and tell the kids MY predictions.  The next slides shows you exactly what to write on the post-it note that you will stick to the Chart Paper Graphic Organiz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reading when you get to the bottom of page 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in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Says   +     I Know    =      MIGHT happen N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EDI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76520"/>
            <a:ext cx="22096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,” she whisp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tly, “take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klace off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1676520"/>
            <a:ext cx="266724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ish people w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r of Dav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ir ne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ymbo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Je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azi soldiers w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for Jew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to pu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ca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676520"/>
            <a:ext cx="228600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zi soldiers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 is Jewis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y will take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43400"/>
            <a:ext cx="22860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id you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rk-haired one?”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wisted the loc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’s hair.  “Fr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ather?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lkman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343400"/>
            <a:ext cx="25909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eopl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lted by oth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get ang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41972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redict that the 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et angry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diers and yell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Breadwinne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ake 3 predictions on the text as you r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plete the answers in the packe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udents will read in their own book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kids back together with five minutes left of class, and have them share some of their pred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39:18Z</dcterms:created>
  <dc:creator>Administrator</dc:creator>
  <dc:description/>
  <dc:language>en-US</dc:language>
  <cp:lastModifiedBy>Administrator</cp:lastModifiedBy>
  <dcterms:modified xsi:type="dcterms:W3CDTF">2010-09-15T14:02:01Z</dcterms:modified>
  <cp:revision>6</cp:revision>
  <dc:subject/>
  <dc:title>Do Now 9-22 I can make predictions as I read and look to see if my predictions are accurate.</dc:title>
</cp:coreProperties>
</file>